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027-5ADB-46AF-8714-9FA7B62E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8B3-16AA-4E98-BBA3-7629C8A5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789-CC00-4AEE-95F5-2EB157AC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F44-3CF6-4FCC-9547-2C40C5D4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E461-DAC5-4E65-A26F-1B6BE02B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B7B8-481B-48B5-853B-E831F1E7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7552-B863-4FA0-BC4A-81158441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9CE5-26B9-4822-90E7-BA02846A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90C0-6A7F-43F2-A346-0EF92BD8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38DF-BA01-43A2-9806-F027BB4A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A7E8-7E3E-49C0-B5E9-231ABDD0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A69-D08B-4A58-8E95-5FCA8BDA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4B5D-6873-44D0-95B6-CFD4CF43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00B4-6298-4E18-B851-2D622288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5D30-D685-4C3D-9156-819313EC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CF59-C28D-49C9-9A4C-129A02F8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5D8C-D989-401F-BE91-AF580CB1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1EE90-3BFA-4F3A-A7F0-4119C84E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2809E-E912-497E-929E-D3E3373A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EBCAE-EF25-4D0D-98B9-807E052D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42BEA-5CD7-4A67-9351-73A34A98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7417E-26B9-4EB9-93D6-67EBD3BF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75C-F5A7-443D-8A96-7BE4ECC6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89EA9-169C-4681-800E-7D490ACB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A343F-EC90-4986-A1EE-26F40097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403D1-CF62-4C39-A132-69915582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F693F-2344-40A1-BA86-5D7B73D4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40EAB-E306-4D2F-98D0-CD563C7E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241CD-6C27-4D72-A5AA-CC104A93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EFF53-715A-4F26-AE72-B7928EA1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F497E0-F8A5-4064-BF4F-4F02369C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AD2DD1-C388-47E3-B8E9-31F02382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8CDBDB-2251-4492-9447-5C68029F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AD5-EA48-44D2-9A78-1B09266B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4B968-FE40-479D-AE0D-8026C31C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2D678-34D9-4F5F-A146-FE1276DD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41475-D03A-4553-9B75-0E3FF889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229CF-8D58-49BE-A35E-BB6B7711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3F010-C013-4C5A-858B-587E78BF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CA542-772F-4334-8A4B-1C37245F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16FC5-653F-48C0-9BC0-1E6D699D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6FFECD-59CA-4641-89AD-6534A522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77154-1895-4EFB-860F-EA27EDEC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AF9E6-8D2A-4568-9D68-448963F8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B7B-FFFB-458C-8976-1C99810B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83AF0-5300-4AAB-811F-3E9F4064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23F74-5D89-45CE-B06A-A29B93E2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6AE84-9CB9-45A5-9042-56811EDC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53E08-75D4-4245-9CB1-F85597DE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0BB90-D67E-4A56-A5A8-6D4895D1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55576-7627-44B9-8DF3-C5C4B3AD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FAF9F-5C5B-4DC4-93DC-F1D2F72C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45F08-4410-4327-AF86-D4E86E7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78547-EB66-4EEC-AEAD-80E026C9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CBE4B-6501-4171-9D37-3BA4BD04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A57-3369-4A49-8720-DAA87B18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47ABB-7CAC-4CD0-95B3-060B8AF5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9674B-CD3E-4FD2-81C1-16777F47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81C1-675D-43A0-9D19-BF273063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707B8-65AF-4993-A990-B7731A62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4ECEE-EAEB-41D6-B1BB-0D03EE5B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54885-4BF1-4ED2-9FF0-AF9961E0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686AA-AECE-4344-9647-960610CB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16436-8431-4778-B34D-F0541F15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EAA41-8521-4609-BA6F-E6B44C74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A55A3-6124-4F7F-8B52-3EB1ADC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123-AA3B-421C-88E9-E74D583B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E35D5-A26B-4B97-B3E6-77F37773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394DB-D12C-4CA0-A220-6B3F646F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DEFEE-8809-4F20-9B6C-00BA6D59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62556A-3CB1-46D1-B519-679E0D87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21E5D-C3AB-45FE-9AA4-1AD8EE54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C4B6C-A2DD-4F29-9407-8E779837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57A09-2DD5-4DE9-B607-FB93E358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40F129-4388-4019-A719-7B0EACFB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B5B72-AC34-4E11-83E7-2B473CEC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42D8B-C0AF-42C5-867C-F5E4F078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93D-586C-4F17-B62D-FEE530F8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B7189-7923-42DD-A948-A8AADA55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F0FF6B-29C3-4184-92DF-338E148E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93DD1E-4B7D-47B6-AFAD-213DE4E9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2E688E-9A8B-45A3-8EFA-3D724947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89D9D-3FE8-4579-84D9-C140F43C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8501C-1CA6-4AA5-B94B-95C7BBB2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11301-58BD-4309-8A53-45A5725C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322A4-B9F2-4DBF-A923-8D4E73DB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3ED54-2958-41C0-BBA6-2D5367CE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FF5B5-8370-42E2-AD3B-D6B52012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B34-6950-424A-9D0B-9A7608D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FD5B0-A26A-444E-9A47-E8DD1356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40E54-EFFB-4985-BB32-B50BE811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2FA78-20CD-445B-897C-18E8E027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3D98E-360C-4803-B443-5AE75AFC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2AD0C-C316-42FA-9910-20375021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2161C-E8DC-4CC2-A4C6-987E33C9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25F4D-FD52-431E-8B81-D5EC66BB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0E987-A1F0-4D76-9B35-D5684845180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953D8-61BA-4EA0-A1F8-02BC351C86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E1105-BE66-4786-8348-410BB32148BC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E88B2-7298-4CC8-BF0A-430AEDD2035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33371-0DC5-449A-B343-367D0159301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B24E0-1546-4899-9F0C-E0C0D457E98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D3D38-7B47-466E-9399-71583404784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B198B-104C-41A1-B2EC-0A4FBDA8AE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A23C9-83B5-4A3F-9E95-E75CC546621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05B2D-FC1E-4EBB-9DA6-830930EE34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4AC25-5837-4E78-B796-BB88851B4E8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66CF1-FD0A-4EB1-B668-1656CAAA2B09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EBD41-3A01-4B54-8FF3-098CFC72331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09095-B2B8-41E5-82EC-414F52D3C85E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2AAF7-9D36-4228-BDFC-2B6AAABF204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9FE15-863C-4925-853C-59D81219A8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bddc3"/>
                </a:solidFill>
                <a:latin typeface="Tw Cen MT"/>
              </a:rPr>
              <a:t>CHEZ-MOI</a:t>
            </a:r>
            <a:endParaRPr b="0" lang="en-US" sz="6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DANIELLE GILDAY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ERIOD 3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Screen shot 2011-04-12 at 3.40.35 PM.png"/>
          <p:cNvPicPr/>
          <p:nvPr/>
        </p:nvPicPr>
        <p:blipFill>
          <a:blip r:embed="rId1"/>
          <a:stretch/>
        </p:blipFill>
        <p:spPr>
          <a:xfrm>
            <a:off x="708120" y="1082520"/>
            <a:ext cx="77738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Screen shot 2011-04-12 at 3.40.52 PM.png"/>
          <p:cNvPicPr/>
          <p:nvPr/>
        </p:nvPicPr>
        <p:blipFill>
          <a:blip r:embed="rId1"/>
          <a:stretch/>
        </p:blipFill>
        <p:spPr>
          <a:xfrm>
            <a:off x="860400" y="1219320"/>
            <a:ext cx="7129440" cy="4686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Screen shot 2011-04-12 at 3.41.20 PM.png"/>
          <p:cNvPicPr/>
          <p:nvPr/>
        </p:nvPicPr>
        <p:blipFill>
          <a:blip r:embed="rId1"/>
          <a:stretch/>
        </p:blipFill>
        <p:spPr>
          <a:xfrm>
            <a:off x="612720" y="985680"/>
            <a:ext cx="7994880" cy="4291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Screen shot 2011-04-12 at 3.41.33 PM.png"/>
          <p:cNvPicPr/>
          <p:nvPr/>
        </p:nvPicPr>
        <p:blipFill>
          <a:blip r:embed="rId1"/>
          <a:srcRect l="-2601" t="0" r="-2601" b="0"/>
          <a:stretch/>
        </p:blipFill>
        <p:spPr>
          <a:xfrm>
            <a:off x="612720" y="1008000"/>
            <a:ext cx="8153280" cy="44960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Screen shot 2011-04-12 at 3.48.06 PM.png"/>
          <p:cNvPicPr/>
          <p:nvPr/>
        </p:nvPicPr>
        <p:blipFill>
          <a:blip r:embed="rId1"/>
          <a:stretch/>
        </p:blipFill>
        <p:spPr>
          <a:xfrm>
            <a:off x="357120" y="1025640"/>
            <a:ext cx="8408880" cy="44845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Content Placeholder 3" descr="Screen shot 2011-04-12 at 3.41.47 PM.png"/>
          <p:cNvPicPr/>
          <p:nvPr/>
        </p:nvPicPr>
        <p:blipFill>
          <a:blip r:embed="rId1"/>
          <a:srcRect l="0" t="-926" r="0" b="-926"/>
          <a:stretch/>
        </p:blipFill>
        <p:spPr>
          <a:xfrm>
            <a:off x="612720" y="958680"/>
            <a:ext cx="8153280" cy="4496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Screen shot 2011-04-12 at 11.16.53 PM.png"/>
          <p:cNvPicPr/>
          <p:nvPr/>
        </p:nvPicPr>
        <p:blipFill>
          <a:blip r:embed="rId1"/>
          <a:stretch/>
        </p:blipFill>
        <p:spPr>
          <a:xfrm>
            <a:off x="770040" y="863640"/>
            <a:ext cx="7995960" cy="43466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Screen shot 2011-04-12 at 11.17.13 PM.png"/>
          <p:cNvPicPr/>
          <p:nvPr/>
        </p:nvPicPr>
        <p:blipFill>
          <a:blip r:embed="rId1"/>
          <a:stretch/>
        </p:blipFill>
        <p:spPr>
          <a:xfrm>
            <a:off x="612720" y="923760"/>
            <a:ext cx="8153280" cy="43945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22:44:55Z</dcterms:created>
  <dc:creator>Dani Gilday</dc:creator>
  <dc:description/>
  <dc:language>en-US</dc:language>
  <cp:lastModifiedBy>Dani Gilday</cp:lastModifiedBy>
  <dcterms:modified xsi:type="dcterms:W3CDTF">2011-04-13T12:48:24Z</dcterms:modified>
  <cp:revision>8</cp:revision>
  <dc:subject/>
  <dc:title>Slide 1</dc:title>
</cp:coreProperties>
</file>